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239-E976-4720-AE08-B43E3B60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017-A173-472C-8CEC-D53723EB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3A1A-637D-4C24-A31D-F8AAF489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A7F0-13AF-4DB9-813B-3380735EC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A5FB-87AD-4617-A34C-7F8EFDE6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7570-F7C6-4AE7-ACF6-03DCE12CA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91D50-FEB3-4FCD-BC03-68C42164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A4596-8860-454D-B06C-E6B44673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9C3F-13B2-4A9C-94A4-331E02DB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DF00A-4D51-4BF1-9C64-E4E20535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6F60-52F8-42ED-A67C-213A6116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8CE-D7BB-4D49-920B-2412B7F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797B-36AE-4A4A-BE16-99369898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54BD-CCDE-4C60-A001-0B34FB22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1980-3267-4F77-91FD-B0EBF359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42589-4E3F-4DD4-ADE3-A8CF50E9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EBD6C-EE9C-4C7C-B864-1A746E73B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364-4ED5-41E8-9A0C-632D65E3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0CF7-18D0-4AA3-87C3-2CA6EE5B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0BAB-D40A-4A5D-976A-2BFCD7CF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B9F2-C702-48E4-8362-D28B647E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7F19-5E6E-432C-9848-01F9F5C2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AE3-F1DA-4167-B3A6-DABE0DD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6198-9FFD-4AA7-BC2C-9359CCD3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25C1-2DDE-4FEE-BC61-E9DB630C1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7D16-0B38-4988-B1CD-E0D658FA1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3rdcallforproposals" TargetMode="External"/><Relationship Id="rId3" Type="http://schemas.openxmlformats.org/officeDocument/2006/relationships/hyperlink" Target="http://www.husk-cbc.eu/3rdcallforproposals" TargetMode="External"/><Relationship Id="rId4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DaxlinePro-Regular"/>
              </a:rPr>
              <a:t>Magyarország-Szlovákia Határon Átnyúló Együttműködési Program 2007-2013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INFO NA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3. pályázati felhív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DaxlinePro-Regular"/>
              </a:rPr>
              <a:t>2011.01.26. Győ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6588000" y="558972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DaxlinePro-Regular"/>
              </a:rPr>
              <a:t>Biriki Arian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3280" y="-36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DaxlinePro-Regular"/>
              </a:rPr>
              <a:t>A pályázatok benyújtásának módja, hel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1280" y="2781360"/>
            <a:ext cx="8229600" cy="295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U-SK CBC Program Közös Szakmai Titkársá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VÁTI Nonprofit Kf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Gellérthegy u. 30-32.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H-1016 Budapest, Magyarorsz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1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Pályázati felhívás hivatkozási száma: HUSK/10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341360"/>
            <a:ext cx="822960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DaxlinePro-Regular"/>
              </a:rPr>
              <a:t>IMIR 2007-2013 Front Office Application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2"/>
              </a:rPr>
              <a:t>http</a:t>
            </a:r>
            <a:r>
              <a:rPr b="0" lang="hu-HU" sz="2800" spc="-1" strike="noStrike" u="sng">
                <a:solidFill>
                  <a:srgbClr val="0000ff"/>
                </a:solidFill>
                <a:uFillTx/>
                <a:latin typeface="DaxlinePro-Regular"/>
                <a:hlinkClick r:id="rId3"/>
              </a:rPr>
              <a:t>://www.husk-cbc.eu/3rdcallfor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DaxlinePro-Regular"/>
              </a:rPr>
              <a:t>Elvárásain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For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gy Vezető Partner és egy 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Szakm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innovatív projek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esélyegyenlőségi feltételek teljesítése (min. 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fenntartható fejlődés feltételeinek teljesítése (min. 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DaxlinePro-Regular"/>
              </a:rPr>
              <a:t>Előfeltétel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reális, fenntartható partnerség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kölcsönös bizal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megfelelő kommunikáci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n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jóváhagyott projekt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előkészítési költségei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</a:t>
            </a:r>
            <a:r>
              <a:rPr b="0" i="1" lang="hu-HU" sz="2000" spc="-1" strike="noStrike">
                <a:solidFill>
                  <a:srgbClr val="cc0000"/>
                </a:solidFill>
                <a:latin typeface="DaxlinePro-Regular"/>
              </a:rPr>
              <a:t>projekt partnerenként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a teljes elszámolható költség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 (megval.tan, tervdok., engedélyezés, közbesz., fordítás, KH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jogosult területen kívül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megvalósítandó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tevékeny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költsége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a meg a projekt elszámolható összköltségének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megvásárolt föld csak akkor szerepelhet az elszámolható költségek között, ha nem haladja meg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teljes elszámolható költségek 10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2000" spc="-1" strike="noStrike">
                <a:solidFill>
                  <a:srgbClr val="cc0000"/>
                </a:solidFill>
                <a:latin typeface="DaxlinePro-Regular"/>
              </a:rPr>
              <a:t>rezsiköltségek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 nem haladhatják meg projektenként a </a:t>
            </a:r>
            <a:r>
              <a:rPr b="0" lang="hu-HU" sz="2000" spc="-1" strike="noStrike">
                <a:solidFill>
                  <a:srgbClr val="cc0000"/>
                </a:solidFill>
                <a:latin typeface="DaxlinePro-Regular"/>
              </a:rPr>
              <a:t>személyi jellegű ráfordítások 25%-</a:t>
            </a:r>
            <a:r>
              <a:rPr b="0" lang="hu-HU" sz="2000" spc="-1" strike="noStrike">
                <a:solidFill>
                  <a:srgbClr val="000000"/>
                </a:solidFill>
                <a:latin typeface="DaxlinePro-Regular"/>
              </a:rPr>
              <a:t>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, lepecsételve és aláír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cc0000"/>
                </a:solidFill>
                <a:latin typeface="DaxlinePro-Regular"/>
              </a:rPr>
              <a:t>Vezető Partner nyilatkoza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(a nyomtatvány elérhető magyar VP-nek magyarul, szlovák VP-nek szlovákul) - nyomtatva, törvényes képviselő által aláírva és lepecsételv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cc0000"/>
                </a:solidFill>
                <a:latin typeface="DaxlinePro-Regular"/>
              </a:rPr>
              <a:t>Partnerségi nyilatkozat</a:t>
            </a: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 (az összes támogatásban részesülő partner törvényes képviselője által aláírva)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nyomtatva, törvényes képviselő által aláírva és lepecsétel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A </a:t>
            </a:r>
            <a:r>
              <a:rPr b="1" lang="hu-HU" sz="1800" spc="-1" strike="noStrike">
                <a:solidFill>
                  <a:srgbClr val="cc0000"/>
                </a:solidFill>
                <a:latin typeface="DaxlinePro-Regular"/>
              </a:rPr>
              <a:t>nyomtatva</a:t>
            </a:r>
            <a:r>
              <a:rPr b="1" lang="hu-HU" sz="1800" spc="-1" strike="noStrike">
                <a:solidFill>
                  <a:srgbClr val="000000"/>
                </a:solidFill>
                <a:latin typeface="DaxlinePro-Regular"/>
              </a:rPr>
              <a:t> beküldendő dokumentumok a következő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DaxlinePro-Regular"/>
              </a:rPr>
              <a:t>1. melléklet - 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Amennyiben a partnerek az együttműködési kritériumok közül a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„Közös fejlesztés”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feltételét választják, a megfelelőség igazolására szükséges az előkészítő tárgyalásokra szóló meghívók, jelenléti ívek, valamint a megbeszélések során készült jegyzőkönyvek pályázathoz való csatolás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2. melléklet - A projekt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fenntarthatóságá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3. melléklet - Az </a:t>
            </a:r>
            <a:r>
              <a:rPr b="0" lang="hu-HU" sz="1600" spc="-1" strike="noStrike">
                <a:solidFill>
                  <a:srgbClr val="cc0000"/>
                </a:solidFill>
                <a:latin typeface="DaxlinePro-Regular"/>
              </a:rPr>
              <a:t>esélyegyenlőséget</a:t>
            </a:r>
            <a:r>
              <a:rPr b="0" lang="hu-HU" sz="1600" spc="-1" strike="noStrike">
                <a:solidFill>
                  <a:srgbClr val="000000"/>
                </a:solidFill>
                <a:latin typeface="DaxlinePro-Regular"/>
              </a:rPr>
              <a:t> biztosító intézkedések (a formátum adott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Melléklet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Folyamatá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2827440" y="1600200"/>
            <a:ext cx="1257120" cy="5716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ó, a KSZT és a RIP támogatásáv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27440" y="32004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 R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27440" y="4343400"/>
            <a:ext cx="1257120" cy="45720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SZT és/vagy külső szakértő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7440" y="5029200"/>
            <a:ext cx="1257120" cy="343080"/>
          </a:xfrm>
          <a:prstGeom prst="rect">
            <a:avLst/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M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56240" y="17146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 kidolgoz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3280" y="2924280"/>
            <a:ext cx="20574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 benyújtása/befogadá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3280" y="3573360"/>
            <a:ext cx="20574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Formai és jogosultsági ellenőrz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236000" y="2637000"/>
            <a:ext cx="936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ánypótlás (az értékelési táblában rögzített, előre meghatározott esetekbe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27760" y="3314880"/>
            <a:ext cx="80028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7628040" y="308592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28040" y="1942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399080" y="194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27840" y="2171880"/>
            <a:ext cx="120816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ismétel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99160" y="20574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99160" y="2514600"/>
            <a:ext cx="1800" cy="114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884840" y="2171880"/>
            <a:ext cx="1055520" cy="46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ályázat benyújtása, Vezető Partn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42040" y="2514600"/>
            <a:ext cx="1440" cy="11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42040" y="2057400"/>
            <a:ext cx="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656240" y="4457880"/>
            <a:ext cx="274320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Pályázatok szakmai értékelé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41760" y="2629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41760" y="411480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27760" y="262908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41760" y="26528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27840" y="411480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56240" y="5029200"/>
            <a:ext cx="274320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 pályázatok kiválasztása, támogatási dönté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27840" y="4800600"/>
            <a:ext cx="1440" cy="2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Ami segít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ályázati felhívással kapcsolatos minden információ és dokumentum megtalálható a honlapunkon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www.husk-cbc.e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elhív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útmutat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és melléklete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Pályázati formanyomtatvány kitöltési útmutató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Útmutató a költségek elszámolhatóságáho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Értékelő táblázat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Megvalósíthatósági tanulmány szerkezet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riki Arian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-SK J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Általános információ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ályázati felhívás érvényessége </a:t>
            </a: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2010.12.01 - 2011.02.28.</a:t>
            </a:r>
            <a:br>
              <a:rPr sz="3200"/>
            </a:br>
            <a:r>
              <a:rPr b="1" lang="hu-HU" sz="3200" spc="-1" strike="noStrike">
                <a:solidFill>
                  <a:srgbClr val="cc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ERFA: 10 365 801 EUR</a:t>
            </a:r>
            <a:br>
              <a:rPr sz="3200"/>
            </a:b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A projektek időtartama max. 24 hó leh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xlinePro-Regula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1.1.2 Üzleti együttműködések elősegítése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1 936 941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 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1 Vízgazdálkodás (árvíz- és belvízvédelem)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2 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1.2 Tanulmányok, tervek és képzések (Vízgazdálkodás, árvíz- és belvízvédel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720 593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4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1 Szélessávú internet ki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 208 267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2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1 0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axlinePro-Regular"/>
              </a:rPr>
              <a:t>2. Priori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2.5.2 Közösségi csatlakozási programok, média; az információáramlás előseg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Keret: 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1" lang="hu-HU" sz="2400" spc="-1" strike="noStrike">
                <a:solidFill>
                  <a:srgbClr val="000000"/>
                </a:solidFill>
                <a:latin typeface="DaxlinePro-Regular"/>
              </a:rPr>
              <a:t>5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A projektben igényelhető támogatás összeg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DaxlinePro-Regular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in.    10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Max.  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	</a:t>
            </a:r>
            <a:r>
              <a:rPr b="0" lang="sk-SK" sz="2400" spc="-1" strike="noStrike">
                <a:solidFill>
                  <a:srgbClr val="000000"/>
                </a:solidFill>
                <a:latin typeface="DaxlinePro-Regular"/>
                <a:ea typeface="Arial"/>
              </a:rPr>
              <a:t>250 000 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00"/>
                </a:solidFill>
                <a:latin typeface="DaxlinePro-Regular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Részletes információkat az intézkedésekrő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DaxlinePro-Regular"/>
              </a:rPr>
              <a:t>Pályázati útmutató 1.3 fejezetéb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axlinePro-Regular"/>
              </a:rPr>
              <a:t>olvashatnak.</a:t>
            </a:r>
            <a:r>
              <a:rPr b="1" lang="en-US" sz="3200" spc="-1" strike="noStrike">
                <a:solidFill>
                  <a:srgbClr val="000000"/>
                </a:solidFill>
                <a:latin typeface="DaxlinePro-Regula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DaxlinePro-Regular"/>
              </a:rPr>
              <a:t>Beadási határidő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pályázatot és a mellékleteket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angolul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kell benyújtani </a:t>
            </a:r>
            <a:r>
              <a:rPr b="0" lang="en-US" sz="1600" spc="-1" strike="noStrike">
                <a:solidFill>
                  <a:srgbClr val="000000"/>
                </a:solidFill>
                <a:latin typeface="DaxlinePro-Regular"/>
              </a:rPr>
              <a:t>(kivéve a VP nyilatkozat – nemzeti nyelv, az IMIR 2007-2013 generálj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z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IMIR 2007-2013 Front Office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rendszeren keresztül elektronikus formába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február 28-ig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(a rendszer 2011.01.03. óta nyitva ál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A mellékletek és nyomtatványok </a:t>
            </a:r>
            <a:r>
              <a:rPr b="0" lang="en-US" sz="2000" spc="-1" strike="noStrike">
                <a:solidFill>
                  <a:srgbClr val="cc0000"/>
                </a:solidFill>
                <a:latin typeface="DaxlinePro-Regular"/>
              </a:rPr>
              <a:t>postára</a:t>
            </a: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 adási határidej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23.5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DaxlinePro-Regula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axlinePro-Regular"/>
              </a:rPr>
              <a:t>Személyesen/meghatalmazott által </a:t>
            </a:r>
            <a:r>
              <a:rPr b="1" lang="en-US" sz="2000" spc="-1" strike="noStrike">
                <a:solidFill>
                  <a:srgbClr val="cc0000"/>
                </a:solidFill>
                <a:latin typeface="DaxlinePro-Regular"/>
              </a:rPr>
              <a:t>2011. március 4. 12.00-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09:21Z</dcterms:created>
  <dc:creator>birikiarianna</dc:creator>
  <dc:description/>
  <dc:language>en-US</dc:language>
  <cp:lastModifiedBy>birikiarianna</cp:lastModifiedBy>
  <dcterms:modified xsi:type="dcterms:W3CDTF">2011-01-25T16:19:38Z</dcterms:modified>
  <cp:revision>52</cp:revision>
  <dc:subject/>
  <dc:title>Info nap 3. pályázati felhívás</dc:title>
</cp:coreProperties>
</file>